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png" ContentType="image/png"/>
  <Override PartName="/ppt/media/image5.png" ContentType="image/png"/>
  <Override PartName="/ppt/media/image8.jpeg" ContentType="image/jpeg"/>
  <Override PartName="/ppt/media/image10.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A86F-F81D-478D-B18A-B6D250563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90571-932F-4AB4-B8FE-7A289AD67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0C3B6-CFA1-4136-A086-85E2DA79A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0F92B-438F-4334-B23D-C116502A2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FC5EA-8510-406C-B71D-C8CF13BBC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EFACB-C54E-4FF7-9EA9-F7CCC1240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EABD5-03E0-4062-9ED5-F81330300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1E677-CBB4-4534-82B1-E57E7324F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85334-6751-4A2A-912C-5B1D65E73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CD52B-B9BD-4999-9106-579CF158C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71A54-486F-4FFC-8044-E0EAF1529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FC79E-20DE-4EA6-87B5-107DA9180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9A498-49E0-47BA-9D9E-2AA12F920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804E-9D7E-4C28-9867-39A53AA42F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Cultural Contribution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 Practi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ce/Philosoph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ies/Inven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_x001f_masks51816236815316#CEAEA51.gif                                00071491_x000c_Macintosh HD                   BEF76014:"/>
          <p:cNvPicPr/>
          <p:nvPr/>
        </p:nvPicPr>
        <p:blipFill>
          <a:blip r:embed="rId1"/>
          <a:stretch/>
        </p:blipFill>
        <p:spPr>
          <a:xfrm>
            <a:off x="1743120" y="609480"/>
            <a:ext cx="565632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edy</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in the pres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 a happy en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ked fun at certain politicians in the audience (not the brightest ide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 poked fun at a certain kind of per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Comedy</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stophanes - found something funny about every o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you know that the first </a:t>
            </a:r>
            <a:r>
              <a:rPr b="0" i="1" lang="en-US" sz="3200" spc="-1" strike="noStrike">
                <a:solidFill>
                  <a:srgbClr val="000000"/>
                </a:solidFill>
                <a:latin typeface="Times New Roman"/>
              </a:rPr>
              <a:t>Shrek</a:t>
            </a:r>
            <a:r>
              <a:rPr b="0" lang="en-US" sz="3200" spc="-1" strike="noStrike">
                <a:solidFill>
                  <a:srgbClr val="000000"/>
                </a:solidFill>
                <a:latin typeface="Times New Roman"/>
              </a:rPr>
              <a:t> movie followed the rules for Shakespearean and ancient Greek comedy?  Check it 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_x000b_shrek13.jpg                                                    00071491_x000c_Macintosh HD                   BEF76014:"/>
          <p:cNvPicPr/>
          <p:nvPr/>
        </p:nvPicPr>
        <p:blipFill>
          <a:blip r:embed="rId1"/>
          <a:stretch/>
        </p:blipFill>
        <p:spPr>
          <a:xfrm>
            <a:off x="685800" y="1011240"/>
            <a:ext cx="777240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rPr>
              <a:t>A typical comedy:</a:t>
            </a:r>
            <a:endParaRPr b="0" lang="en-US" sz="12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is set (at least in part) in the country, which is often depicted as a magic, idealized place (coming back from rescuing Fiona, Shrek’s swamp).</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has shepherds, farmers and other middle-class people as characters (though it may have royal and upper-class characters, as well) - (townsfolk, soldiers, Monsieur Hood, fairy tale characters, ogre/hero, prince/villain).</a:t>
            </a:r>
            <a:endParaRPr b="0" lang="en-US" sz="1300" spc="-1" strike="noStrike">
              <a:solidFill>
                <a:srgbClr val="000000"/>
              </a:solidFill>
              <a:latin typeface="Times New Roman"/>
            </a:endParaRPr>
          </a:p>
          <a:p>
            <a:pPr marL="343080" indent="0" algn="ctr">
              <a:lnSpc>
                <a:spcPct val="2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opens by showing the hero in some kind of distress, troubled by a problem and trying to figure out a way to solve it (fairy tale characters move to Shrek’s swamp after being evicted, he wants them to leave).</a:t>
            </a: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criticizes society or specific people in society in a funny way (prince is small and compensates for his size with gigantic surroundings).</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hero’s triumph (Shrek gets Fiona and his swamp back).</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frequently closes with a scene in which a wedding or another type of celebration takes place (Shrek marries Fiona).</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reestablishment of order and a sense that a new “golden age” is beginning (song “I’m A Believer,” prince is killed, soldiers become nice, Shrek and Fiona ride off in a carriage, - they all lived happily ever after).</a:t>
            </a:r>
            <a:endParaRPr b="0" lang="en-US" sz="13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Philosoph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ce - studying the laws of nature; scientis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osophy - loving wisdom; philosoph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were called philosoph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rates (below)</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6" descr="_x0016_200px-Socrates.bmp.jpg                                         00071491_x000c_Macintosh HD                   BEF76014:"/>
          <p:cNvPicPr/>
          <p:nvPr/>
        </p:nvPicPr>
        <p:blipFill>
          <a:blip r:embed="rId1"/>
          <a:stretch/>
        </p:blipFill>
        <p:spPr>
          <a:xfrm>
            <a:off x="3925800" y="4114800"/>
            <a:ext cx="12906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 for kid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is websi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historyforkids.org/learn/greeks/philosophy/socrates.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s is supposed to be of Socrates,</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ut it was made after he had already been dead for some tim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y someone who did not know what Socrates looked lik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He believed people could discover truth if they knew how to think.</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Plato was his pupil.</a:t>
            </a:r>
            <a:endParaRPr b="0" lang="en-US" sz="1300" spc="-1" strike="noStrike">
              <a:solidFill>
                <a:srgbClr val="000000"/>
              </a:solidFill>
              <a:latin typeface="Times New Roman"/>
            </a:endParaRPr>
          </a:p>
        </p:txBody>
      </p:sp>
      <p:pic>
        <p:nvPicPr>
          <p:cNvPr id="87" name="Picture 5" descr="_x000c_socrates.gif                                                   00071491_x000c_Macintosh HD                   BEF76014:"/>
          <p:cNvPicPr/>
          <p:nvPr/>
        </p:nvPicPr>
        <p:blipFill>
          <a:blip r:embed="rId1"/>
          <a:stretch/>
        </p:blipFill>
        <p:spPr>
          <a:xfrm>
            <a:off x="3825720" y="1981080"/>
            <a:ext cx="149076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ww.mythweb.com</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this website to learn more about Greek gods and heroes.</a:t>
            </a:r>
            <a:endParaRPr b="0" lang="en-US" sz="2800" spc="-1" strike="noStrike">
              <a:solidFill>
                <a:srgbClr val="000000"/>
              </a:solidFill>
              <a:latin typeface="Times New Roman"/>
            </a:endParaRPr>
          </a:p>
        </p:txBody>
      </p:sp>
      <p:pic>
        <p:nvPicPr>
          <p:cNvPr id="52" name="Picture 5" descr=""/>
          <p:cNvPicPr/>
          <p:nvPr/>
        </p:nvPicPr>
        <p:blipFill>
          <a:blip r:embed="rId1"/>
          <a:stretch/>
        </p:blipFill>
        <p:spPr>
          <a:xfrm>
            <a:off x="1122480" y="1981080"/>
            <a:ext cx="293688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198144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udent of Socrat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 school was called the Academy</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rote The Republic about an ideal stat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th could be found after a long, hard search</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his brightest pupils was Aristotle</a:t>
            </a:r>
            <a:endParaRPr b="0" lang="en-US" sz="2400" spc="-1" strike="noStrike">
              <a:solidFill>
                <a:srgbClr val="000000"/>
              </a:solidFill>
              <a:latin typeface="Times New Roman"/>
            </a:endParaRPr>
          </a:p>
        </p:txBody>
      </p:sp>
      <p:pic>
        <p:nvPicPr>
          <p:cNvPr id="90" name="Picture 5" descr="&#9;plat1.jpg                                                      00071491_x000c_Macintosh HD                   BEF76014:"/>
          <p:cNvPicPr/>
          <p:nvPr/>
        </p:nvPicPr>
        <p:blipFill>
          <a:blip r:embed="rId1"/>
          <a:stretch/>
        </p:blipFill>
        <p:spPr>
          <a:xfrm>
            <a:off x="3941640" y="4114800"/>
            <a:ext cx="125892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s Academy</a:t>
            </a:r>
            <a:endParaRPr b="0" lang="en-US" sz="4400" spc="-1" strike="noStrike">
              <a:solidFill>
                <a:srgbClr val="000000"/>
              </a:solidFill>
              <a:latin typeface="Times New Roman"/>
            </a:endParaRPr>
          </a:p>
        </p:txBody>
      </p:sp>
      <p:pic>
        <p:nvPicPr>
          <p:cNvPr id="92" name="Picture 5" descr="_x0008_acad.jpg                                                       0CEAF0E4_x000c_Macintosh HD                   BEF76014:"/>
          <p:cNvPicPr/>
          <p:nvPr/>
        </p:nvPicPr>
        <p:blipFill>
          <a:blip r:embed="rId1"/>
          <a:stretch/>
        </p:blipFill>
        <p:spPr>
          <a:xfrm>
            <a:off x="1709640" y="1981080"/>
            <a:ext cx="572472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 and Aristotle</a:t>
            </a:r>
            <a:endParaRPr b="0" lang="en-US" sz="4400" spc="-1" strike="noStrike">
              <a:solidFill>
                <a:srgbClr val="000000"/>
              </a:solidFill>
              <a:latin typeface="Times New Roman"/>
            </a:endParaRPr>
          </a:p>
        </p:txBody>
      </p:sp>
      <p:pic>
        <p:nvPicPr>
          <p:cNvPr id="94" name="Picture 7" descr="_x001f_180px-Sanzio_01_Pla#CEAF10F.jpg                                0CEAF0E3_x000c_Macintosh HD                   BEF76014:"/>
          <p:cNvPicPr/>
          <p:nvPr/>
        </p:nvPicPr>
        <p:blipFill>
          <a:blip r:embed="rId1"/>
          <a:stretch/>
        </p:blipFill>
        <p:spPr>
          <a:xfrm>
            <a:off x="3005280" y="1981080"/>
            <a:ext cx="313344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istotle</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pil of Pla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master of them that kn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d the third step to the scientific method - testing the hypothes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the syllogis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ught Alexander the Gre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o classify plants and animal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5" descr="_x000b_ARISTOT.GIF                                                    0CEAF0E3_x000c_Macintosh HD                   BEF76014:"/>
          <p:cNvPicPr/>
          <p:nvPr/>
        </p:nvPicPr>
        <p:blipFill>
          <a:blip r:embed="rId1"/>
          <a:stretch/>
        </p:blipFill>
        <p:spPr>
          <a:xfrm>
            <a:off x="4822920" y="1981080"/>
            <a:ext cx="34592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veries/Inventions</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events are not caused by the way the gods behav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ld is governed by natural law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predicted the eclipse of the sun</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diseases came from natural sour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ppocratic Oath: doctors should honor their teachers, do their best for the sick, never give poisons and keep the secrets of their pati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azz LET"/>
              </a:rPr>
              <a:t>The end.</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_x000e_GREECE1062.jpg                                                 00071491_x000c_Macintosh HD                   BEF76014:"/>
          <p:cNvPicPr/>
          <p:nvPr/>
        </p:nvPicPr>
        <p:blipFill>
          <a:blip r:embed="rId1"/>
          <a:stretch/>
        </p:blipFill>
        <p:spPr>
          <a:xfrm>
            <a:off x="685800" y="826920"/>
            <a:ext cx="7772400" cy="505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ympics - to honor Zeu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xing - fought until one was knocked out or gave u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estrian Events - chariot racing and riding - jockeys rode without stirru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nkration - boxing and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tathlon - combination of 5 events: discus, javelin, jumping, running,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ning - 4 types of ra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mping - they carried stone or lead weigh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_x0017_180px-Olympic_flame.jpg                                        0CEBCEDB_x000c_Macintosh HD                   BEF76014:"/>
          <p:cNvPicPr/>
          <p:nvPr/>
        </p:nvPicPr>
        <p:blipFill>
          <a:blip r:embed="rId1"/>
          <a:stretch/>
        </p:blipFill>
        <p:spPr>
          <a:xfrm>
            <a:off x="2287440" y="609480"/>
            <a:ext cx="456912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rance to the Olympic Stadium</a:t>
            </a:r>
            <a:endParaRPr b="0" lang="en-US" sz="4400" spc="-1" strike="noStrike">
              <a:solidFill>
                <a:srgbClr val="000000"/>
              </a:solidFill>
              <a:latin typeface="Times New Roman"/>
            </a:endParaRPr>
          </a:p>
        </p:txBody>
      </p:sp>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Olympia</a:t>
            </a:r>
            <a:endParaRPr b="0" lang="en-US" sz="2800" spc="-1" strike="noStrike">
              <a:solidFill>
                <a:srgbClr val="000000"/>
              </a:solidFill>
              <a:latin typeface="Times New Roman"/>
            </a:endParaRPr>
          </a:p>
        </p:txBody>
      </p:sp>
      <p:pic>
        <p:nvPicPr>
          <p:cNvPr id="58" name="Picture 5" descr=""/>
          <p:cNvPicPr/>
          <p:nvPr/>
        </p:nvPicPr>
        <p:blipFill>
          <a:blip r:embed="rId1"/>
          <a:stretch/>
        </p:blipFill>
        <p:spPr>
          <a:xfrm>
            <a:off x="685800" y="2690640"/>
            <a:ext cx="3809880" cy="26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10;masks2.jpg                                                     00071491_x000c_Macintosh HD                   BEF76014:"/>
          <p:cNvPicPr/>
          <p:nvPr/>
        </p:nvPicPr>
        <p:blipFill>
          <a:blip r:embed="rId1"/>
          <a:stretch/>
        </p:blipFill>
        <p:spPr>
          <a:xfrm>
            <a:off x="2498760" y="609480"/>
            <a:ext cx="4145040" cy="548640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ater</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Ancient Greek theater has been fascinating.  Aeschylus, Sophocles, Euripides, Aristophanes and others, have been the teachers of morality, nobleness, courage and patriotism across the centuries.  </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Theater originated as a festival to the god Dionysus, the god of joyous life and hospitality.</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63" name="Picture 5" descr=""/>
          <p:cNvPicPr/>
          <p:nvPr/>
        </p:nvPicPr>
        <p:blipFill>
          <a:blip r:embed="rId1"/>
          <a:stretch/>
        </p:blipFill>
        <p:spPr>
          <a:xfrm>
            <a:off x="4648320" y="2733840"/>
            <a:ext cx="3809880" cy="260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ged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set in the past</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relationships between people and god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not all had unhappy ending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ough people suffered, most still carried on despite their sufferin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Tragedy</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schylus - wrote about power and its effect on peo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cles - suffering was due to sins and mistakes and suffering could make someone a better pers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ripides - people suffered because they did bad th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6:56:16Z</dcterms:created>
  <dc:creator>acsd acsd</dc:creator>
  <dc:description/>
  <dc:language>en-US</dc:language>
  <cp:lastModifiedBy>RomaK</cp:lastModifiedBy>
  <dcterms:modified xsi:type="dcterms:W3CDTF">2015-09-02T09:25:44Z</dcterms:modified>
  <cp:revision>66</cp:revision>
  <dc:subject/>
  <dc:title>Greek Cultural Contributions</dc:title>
</cp:coreProperties>
</file>